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01F-5829-4882-9A26-6830F14E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11B-7434-4C48-8CDE-D9930E25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0EA-ED6F-4487-AEFF-DFBD1800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FD5-B870-4616-966C-FBDA9928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87CE-3FC2-4023-85F5-24B235D8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C66-3F6A-4EEE-85E0-9361117A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706-8CAA-46CA-BE9D-D2E492AA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07B-B703-411B-B3F2-E662DC2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E0F-AB0E-42F1-956E-052827D4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823-5F52-457D-9052-BDDBB5B1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81D1-B56E-4730-A3F2-70B3A22C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ACE-8912-4F73-956E-393B36D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6F87-215A-4B7E-A18E-215961F78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9640" y="404640"/>
            <a:ext cx="8059680" cy="290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Monotype Corsiva"/>
              </a:rPr>
              <a:t>В мире профессий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388764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356000" y="4581360"/>
            <a:ext cx="457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онова Елена Павл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 5 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Фразеологические обо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тричь под одну гребен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Шить на живую нит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рать на прице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Ждать у моря погод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гущать краск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грать первую скрип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86920" y="549360"/>
            <a:ext cx="6131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й много в мире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х невозможно переч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многие нуж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интересны, и ва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ты скорее подраст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ессией овладе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райся в деле первым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людям пользу принос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324000" y="5013360"/>
            <a:ext cx="8229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ни это всегд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39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аботе использован матери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estival.1september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40464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У каждого дела запах особый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P8304932_0.tmp"/>
          <p:cNvPicPr/>
          <p:nvPr/>
        </p:nvPicPr>
        <p:blipFill>
          <a:blip r:embed="rId1"/>
          <a:stretch/>
        </p:blipFill>
        <p:spPr>
          <a:xfrm>
            <a:off x="5126040" y="1335240"/>
            <a:ext cx="4024440" cy="265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-6480" y="1262160"/>
            <a:ext cx="2140200" cy="265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3"/>
          <a:stretch/>
        </p:blipFill>
        <p:spPr>
          <a:xfrm>
            <a:off x="-6480" y="3352680"/>
            <a:ext cx="2395800" cy="3511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P8304203_0.tmp"/>
          <p:cNvPicPr/>
          <p:nvPr/>
        </p:nvPicPr>
        <p:blipFill>
          <a:blip r:embed="rId4"/>
          <a:stretch/>
        </p:blipFill>
        <p:spPr>
          <a:xfrm>
            <a:off x="2548080" y="1695600"/>
            <a:ext cx="2408040" cy="354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5"/>
          <a:stretch/>
        </p:blipFill>
        <p:spPr>
          <a:xfrm>
            <a:off x="5608800" y="3998880"/>
            <a:ext cx="3541680" cy="286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6"/>
          <a:stretch/>
        </p:blipFill>
        <p:spPr>
          <a:xfrm>
            <a:off x="3773520" y="5267160"/>
            <a:ext cx="2316240" cy="159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2475000" y="5413320"/>
            <a:ext cx="14317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Профессия</a:t>
            </a:r>
            <a:r>
              <a:rPr b="0" i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это основной род зан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P8302936_0.tmp"/>
          <p:cNvPicPr/>
          <p:nvPr/>
        </p:nvPicPr>
        <p:blipFill>
          <a:blip r:embed="rId1"/>
          <a:stretch/>
        </p:blipFill>
        <p:spPr>
          <a:xfrm>
            <a:off x="1182600" y="2341440"/>
            <a:ext cx="6345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Блок-схема: альтернативный процесс 3"/>
          <p:cNvSpPr/>
          <p:nvPr/>
        </p:nvSpPr>
        <p:spPr>
          <a:xfrm>
            <a:off x="2484360" y="404640"/>
            <a:ext cx="3816360" cy="936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роф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4"/>
          <p:cNvSpPr/>
          <p:nvPr/>
        </p:nvSpPr>
        <p:spPr>
          <a:xfrm>
            <a:off x="4284720" y="1628640"/>
            <a:ext cx="358560" cy="93672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5"/>
          <p:cNvSpPr/>
          <p:nvPr/>
        </p:nvSpPr>
        <p:spPr>
          <a:xfrm flipH="1" rot="19603200">
            <a:off x="6462360" y="1487520"/>
            <a:ext cx="289080" cy="93780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альтернативный процесс 9"/>
          <p:cNvSpPr/>
          <p:nvPr/>
        </p:nvSpPr>
        <p:spPr>
          <a:xfrm>
            <a:off x="684360" y="2924280"/>
            <a:ext cx="1942920" cy="93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 -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альтернативный процесс 10"/>
          <p:cNvSpPr/>
          <p:nvPr/>
        </p:nvSpPr>
        <p:spPr>
          <a:xfrm>
            <a:off x="3419640" y="2924280"/>
            <a:ext cx="1944360" cy="93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-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альтернативный процесс 11"/>
          <p:cNvSpPr/>
          <p:nvPr/>
        </p:nvSpPr>
        <p:spPr>
          <a:xfrm>
            <a:off x="6156360" y="2924280"/>
            <a:ext cx="1871640" cy="10094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- 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альтернативный процесс 12"/>
          <p:cNvSpPr/>
          <p:nvPr/>
        </p:nvSpPr>
        <p:spPr>
          <a:xfrm>
            <a:off x="1547640" y="4724280"/>
            <a:ext cx="2737080" cy="115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– художественный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альтернативный процесс 13"/>
          <p:cNvSpPr/>
          <p:nvPr/>
        </p:nvSpPr>
        <p:spPr>
          <a:xfrm>
            <a:off x="4859280" y="4724280"/>
            <a:ext cx="2737080" cy="11527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ловек – знаков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16"/>
          <p:cNvSpPr/>
          <p:nvPr/>
        </p:nvSpPr>
        <p:spPr>
          <a:xfrm rot="1876800">
            <a:off x="2066400" y="1568160"/>
            <a:ext cx="319320" cy="97776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17"/>
          <p:cNvSpPr/>
          <p:nvPr/>
        </p:nvSpPr>
        <p:spPr>
          <a:xfrm>
            <a:off x="2916360" y="1773360"/>
            <a:ext cx="360360" cy="2735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18"/>
          <p:cNvSpPr/>
          <p:nvPr/>
        </p:nvSpPr>
        <p:spPr>
          <a:xfrm>
            <a:off x="5580000" y="1773360"/>
            <a:ext cx="360360" cy="27352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Угадай професс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шка, шприц, лекар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еркало, ножницы, расческа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Набор игл, ткань, нитки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Стопка ученических тетрадей, указка, классный журнал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рабль, бескозырка, море.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Шланг, вода, костю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Зеркало, ножницы, расчес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исть, валик, ведро с крас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Поварешка, колпак белый, кастрюл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Мяч, кеды, фор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орова, ведро с молок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Краски, кисть, картин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Автобус, билет, деньг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2" descr="P8303607_0.tmp"/>
          <p:cNvPicPr/>
          <p:nvPr/>
        </p:nvPicPr>
        <p:blipFill>
          <a:blip r:embed="rId1"/>
          <a:stretch/>
        </p:blipFill>
        <p:spPr>
          <a:xfrm>
            <a:off x="6227640" y="4365720"/>
            <a:ext cx="2741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Замени одним сло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первым узнает новости, а потом рассказывает их н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обучает животны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Летчик, который управляет космическим корабле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выполняет трюки вместо киноактер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много путешествует, находит горные породы, минерал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Врач, который лечит звере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чинит и изготавливает час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Люди, которые занимаются наук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создает компьютерные игры и программы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272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2777"/>
                </a:solidFill>
                <a:latin typeface="Arial"/>
              </a:rPr>
              <a:t>Человек, который занимается изучением погод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Третий нужный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Зубы лечит: хирург, стоматолог, мед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Корову доит: доярка, пастух, дво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м строит: маляр, строитель, слеса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нег метёт: шофёр, лётчик, двор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етей учит: библиотекарь, нянечка, уч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Рубашки шьёт: швея, сапожник, часов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храняет границу: тракторист, пограничник, почталь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Добывает уголь: художник, водитель, шахт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Назови професс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сли мужчина – портной, то женщина –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Если мужчина ткач, то женщину назовём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ужчина художник, а женщи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спортсмен, о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н актёр, она –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052960" y="378936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Кто так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Кому добавки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Какой зуб вас беспоко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Большое спасибо за покупку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Вам посылка, распишитесь»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В мою сеть попало много рыб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Тема сегодняшнего урока «Полезные ископаем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«Присаживайтесь, как будем стричься?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9:01:33Z</dcterms:created>
  <dc:creator>Пользователь</dc:creator>
  <dc:description/>
  <dc:language>en-US</dc:language>
  <cp:lastModifiedBy>Пользователь</cp:lastModifiedBy>
  <dcterms:modified xsi:type="dcterms:W3CDTF">2011-05-23T18:50:38Z</dcterms:modified>
  <cp:revision>17</cp:revision>
  <dc:subject/>
  <dc:title>«В мире профессий….» (Внеклассное мероприятие в 5 классе)</dc:title>
</cp:coreProperties>
</file>